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11.wmf" ContentType="image/x-wmf"/>
  <Override PartName="/ppt/media/image13.wmf" ContentType="image/x-wmf"/>
  <Override PartName="/ppt/media/image8.jpeg" ContentType="image/jpe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D67A8-079A-4456-ACF6-510EC44C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4BC46-401B-49C4-98AD-DA8C2B0A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1CBF-13B0-4E97-85ED-48C3E197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BFE22-A812-4D3E-9032-7CAE0FCD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D02F-262E-4828-A11D-6B2DC0CA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F9C2-C61A-46BD-A903-C32967F6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A10D-30DA-4448-94BA-01FEF919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CF41-AD2A-4692-ADCF-CB1506CC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3BA0-96B3-495E-845D-2A3AA789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C53C-E392-442D-AE4C-00BF2433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574C-A340-479C-BE3D-114DACCF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A0F68-DB3E-470A-908D-6DE0A4FB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9268-3477-49F4-8460-E7979A8E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0A76-F805-4A88-9462-401580CD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0CFE-066A-4E55-B78C-93D9FE38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1342-6DA4-45CF-A29E-487FE4BD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97DF-70D3-4FC6-9D55-8A86D6AC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C749-0C16-43AC-A5C7-7B3DAB84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087E-F609-4942-9BA1-F6282C74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A336-60DE-4F15-927F-9CEE67C8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FCFB5-34DB-418A-813B-5E2A7981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A9383-1ECA-490D-A41C-E0A02E83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E550-80DE-477E-9E37-8B898571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7EC9-E9EB-46BD-97EC-2500C54E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E923-3EDF-4665-AEE6-C57CFF0B4121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4B67-3896-43E8-97EA-B607BB313EF1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500" spc="-1" strike="noStrike">
                <a:solidFill>
                  <a:srgbClr val="ffffff"/>
                </a:solidFill>
                <a:latin typeface="Arial"/>
              </a:rPr>
              <a:t>Dopravní průzkum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5324400"/>
            <a:ext cx="601992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etr Chocholou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hodnocení získaných d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360" y="981000"/>
            <a:ext cx="49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měr z Prahy v době od 06:00 do 22:00 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627280" y="2036880"/>
          <a:ext cx="6050160" cy="41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036880"/>
                    <a:ext cx="60501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12000" y="16286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ískané hodno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měr z Prahy v době od 06:00 do 22:00 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052640"/>
          <a:ext cx="8207280" cy="261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0728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68360" y="3645000"/>
          <a:ext cx="8207280" cy="2535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645000"/>
                    <a:ext cx="820728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měr do Prahy v době od 06:00 do 22:00 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700360" y="1897200"/>
          <a:ext cx="5832360" cy="40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897200"/>
                    <a:ext cx="583236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96000" y="14842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ískané hodno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měr do Prahy v době od 06:00 do 22:00 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484280"/>
          <a:ext cx="7920000" cy="237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7920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9640" y="3933720"/>
          <a:ext cx="7920000" cy="251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933720"/>
                    <a:ext cx="792000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edovaný úsek se nachází již v obci a proto zde platí 50 km rychlost. Řidiči však tuto rychlost nedodržují protože se nachází na rovném a přehledném úseku. Odbočování vozidel načerpací stanici provoz nijak výrazně neovlivňuje. V budoucnu se této lokality nevíce dotkne plánovaná výstavba Pražského okruhu. Komunikace patří k méně zatíženým v Praze. Nejvyšší hustotu je zde možno pozorovat v ranních hodinách kdy se lidé dostávají do práce (7:00-8:00) a odpoledne kdy se naopak vrací z práce domů(17:00-18: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ávrh řeš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Zejména zpomalení provozu pomocí optických zpomalovacích prvků nebo použití radaru. Další možností je umístění příčného prahu ale toto řešení bych zde nedoporučo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yzovat hustotu ( počet vozidel) doprav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udu na zadané komunik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vypracovat tištěnou podobu zprávy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vypracovat prezentac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hotovit webové stránky obsahující informac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ledky na dané tém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daná obla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aha Suchdol, Kamýcká, profil za benzinou směr z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ledovaná komunikace</a:t>
            </a:r>
            <a:br>
              <a:rPr sz="44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základní map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4087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tecký sní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62472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Fotografie ze sledované komunik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313440" cy="2135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384720" cy="2181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932360" y="4005360"/>
            <a:ext cx="3384720" cy="2184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826920" y="4005360"/>
            <a:ext cx="3313440" cy="213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4160" y="12682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měr z Pra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9800" y="12682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měr do Pra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Charakteristika lok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026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rpací stanice je umístěná na konci Suchdola – Praha 6 směrem na Horoměřice  z Prahy. Nedaleko je umístěná zastávka MHD autobusu číslo 147. Celý úsek je rovný s dobrým rozhledem a nabízí snadné předjíždění. Na místě průzkumu by v budoucnu měl v této lokalitě vyrůst dopravní tunel, který bude součásti Pražského okruhu. Stále však není jasné jaká varianta bude provedena. Jsou dvě varianty(severní S a jižní J viz.mapk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ak vybudovat pokračování okruhu kolem Prahy. Tato stavba má označení 518 (Ruzyně – Suchdol). Zahájení výstavby se zatím předpokládá na rok 2008, plánovaná cena je 16,9 mld. korun. Úsek by měl mít délku 9,4 km. okru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991640" cy="5033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00000" y="476280"/>
            <a:ext cx="744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arianty řešení dokončení městského okru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cc00cc"/>
                </a:solidFill>
                <a:latin typeface="Arial"/>
              </a:rPr>
              <a:t>Fialová: Severní varianta (Ss)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8000"/>
                </a:solidFill>
                <a:latin typeface="Arial"/>
              </a:rPr>
              <a:t>Zelená:Jižní varianta (J</a:t>
            </a:r>
            <a:r>
              <a:rPr b="0" lang="cs-CZ" sz="16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ástí této stavby má být i dvojpatrový most přes řeku Vltavu a dva tun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4652640"/>
            <a:ext cx="78595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sa stavby 518 (Ruzyně – Suchdol) SOKP ve variantě J je zahrnuta do schváleného územního plánu hlavního města Prahy. Problémem další přípravy je odpor občanských sdružení a některých městských částí Prahy 6 a Prahy 8 proti vedení trasy ve variantě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616720" cy="33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lastní průzk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ravní průzkum byl prováděn na silnici č.241 při výjezdu z Prahy směr Horoměřice a Únětice . Průzkum byl prováděn 17.10.2006 od 6:00 do 22:00 hodin což splňuje podmínku normálního pracovního dne. Průzkum byl prováděn 4 pozorovateli, 2 na každý směr. Vyhodnocovali jsme počet a druh vozidel projetých za každou 1 hodinu. Rozlišovali jsme 6 základních druhů vozidel (osobní automobily, lehké nákladní automobily, těžké nákladní automobily, autobusy, motocykly a cyklis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2:11:46Z</dcterms:created>
  <dc:creator>Gajdy</dc:creator>
  <dc:description/>
  <dc:language>en-US</dc:language>
  <cp:lastModifiedBy>Vit Chocholous</cp:lastModifiedBy>
  <dcterms:modified xsi:type="dcterms:W3CDTF">2007-01-07T16:58:50Z</dcterms:modified>
  <cp:revision>14</cp:revision>
  <dc:subject/>
  <dc:title>Dopravní průzkum</dc:title>
</cp:coreProperties>
</file>